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2BCB-B08C-4A45-AB96-4DDF72980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D167-7C56-4A89-9040-73E769C35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D4EB-5D2E-4E98-A4FE-09D7CBDFC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36AB-A378-4983-800C-061721B81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301E-D1FE-4EB1-B94D-17BBC4906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5DED-F8ED-4330-BBD0-D186E3955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7EF5-7122-4CDE-9418-0AD2150C4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11B3-5FE3-4A98-AD4E-2CB9B7FD5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4715-AFCB-4C4A-841B-6872432AC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6434-9A40-4906-900B-6F5161427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2CD0-5A03-4C8C-A749-984DD3348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7E9E-C9AF-4465-82C1-BA1487B7B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5F612-7E6E-4784-BA29-7D4B075BA9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Final Project – Part 2: Eco-We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28240" y="1142640"/>
            <a:ext cx="8915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You are the center of the web!!!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en-US" sz="3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st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layer of web spreading out from you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Choose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t least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20 different things from your list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3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nd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layer of web spreading from list item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The natural resource each item comes from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1" lang="en-US" sz="3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rd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layer of web spreading from natural resource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How long that item lasts before disposal/replace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  <a:ea typeface="Arial"/>
              </a:rPr>
              <a:t>4</a:t>
            </a:r>
            <a:r>
              <a:rPr b="1" lang="en-US" sz="3000" spc="-1" strike="noStrike" baseline="30000">
                <a:solidFill>
                  <a:srgbClr val="ff0000"/>
                </a:solidFill>
                <a:latin typeface="Arial"/>
                <a:ea typeface="Arial"/>
              </a:rPr>
              <a:t>th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  <a:ea typeface="Arial"/>
              </a:rPr>
              <a:t> layer of web spreading from tim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HOW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  <a:ea typeface="Arial"/>
              </a:rPr>
              <a:t> you are going to be more environmentally friendly for each item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  <a:ea typeface="Arial"/>
              </a:rPr>
              <a:t>***Make this layer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  <a:ea typeface="Arial"/>
              </a:rPr>
              <a:t>STAND OUT!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  <a:ea typeface="Arial"/>
              </a:rPr>
              <a:t>***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Calibri"/>
              </a:rPr>
              <a:t>Model Personal Eco-Web</a:t>
            </a:r>
            <a:br>
              <a:rPr sz="40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Oval 3"/>
          <p:cNvSpPr/>
          <p:nvPr/>
        </p:nvSpPr>
        <p:spPr>
          <a:xfrm>
            <a:off x="228600" y="5257800"/>
            <a:ext cx="1447920" cy="1447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YOU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4"/>
          <p:cNvSpPr/>
          <p:nvPr/>
        </p:nvSpPr>
        <p:spPr>
          <a:xfrm>
            <a:off x="1066680" y="2971800"/>
            <a:ext cx="1295640" cy="8380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I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5"/>
          <p:cNvSpPr/>
          <p:nvPr/>
        </p:nvSpPr>
        <p:spPr>
          <a:xfrm>
            <a:off x="2971800" y="3276720"/>
            <a:ext cx="2209680" cy="15238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Natural Resou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6"/>
          <p:cNvSpPr/>
          <p:nvPr/>
        </p:nvSpPr>
        <p:spPr>
          <a:xfrm>
            <a:off x="7010280" y="0"/>
            <a:ext cx="2133720" cy="3200400"/>
          </a:xfrm>
          <a:prstGeom prst="ellipse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Calibri"/>
              </a:rPr>
              <a:t>HOW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  to reduce, reuse, recycle, or change what you 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val 7"/>
          <p:cNvSpPr/>
          <p:nvPr/>
        </p:nvSpPr>
        <p:spPr>
          <a:xfrm>
            <a:off x="3886200" y="1523880"/>
            <a:ext cx="2209680" cy="1447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Time before dispos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" name="Straight Arrow Connector 9"/>
          <p:cNvCxnSpPr>
            <a:stCxn id="44" idx="7"/>
            <a:endCxn id="45" idx="3"/>
          </p:cNvCxnSpPr>
          <p:nvPr/>
        </p:nvCxnSpPr>
        <p:spPr>
          <a:xfrm flipH="1" flipV="1">
            <a:off x="1256760" y="3687480"/>
            <a:ext cx="207000" cy="1783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0" name="Straight Arrow Connector 11"/>
          <p:cNvCxnSpPr>
            <a:stCxn id="45" idx="6"/>
          </p:cNvCxnSpPr>
          <p:nvPr/>
        </p:nvCxnSpPr>
        <p:spPr>
          <a:xfrm>
            <a:off x="2362320" y="3390840"/>
            <a:ext cx="915120" cy="1152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1" name="Straight Arrow Connector 14"/>
          <p:cNvCxnSpPr>
            <a:endCxn id="48" idx="4"/>
          </p:cNvCxnSpPr>
          <p:nvPr/>
        </p:nvCxnSpPr>
        <p:spPr>
          <a:xfrm flipV="1">
            <a:off x="4648320" y="2971440"/>
            <a:ext cx="343440" cy="381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2" name="Straight Arrow Connector 15"/>
          <p:cNvCxnSpPr>
            <a:endCxn id="47" idx="2"/>
          </p:cNvCxnSpPr>
          <p:nvPr/>
        </p:nvCxnSpPr>
        <p:spPr>
          <a:xfrm flipV="1">
            <a:off x="6019560" y="1599840"/>
            <a:ext cx="991080" cy="381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3" name="TextBox 19"/>
          <p:cNvSpPr/>
          <p:nvPr/>
        </p:nvSpPr>
        <p:spPr>
          <a:xfrm>
            <a:off x="533520" y="4795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20"/>
          <p:cNvSpPr/>
          <p:nvPr/>
        </p:nvSpPr>
        <p:spPr>
          <a:xfrm>
            <a:off x="1066680" y="25146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ayer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21"/>
          <p:cNvSpPr/>
          <p:nvPr/>
        </p:nvSpPr>
        <p:spPr>
          <a:xfrm>
            <a:off x="3505320" y="47242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ayer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22"/>
          <p:cNvSpPr/>
          <p:nvPr/>
        </p:nvSpPr>
        <p:spPr>
          <a:xfrm>
            <a:off x="4343400" y="10666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ayer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23"/>
          <p:cNvSpPr/>
          <p:nvPr/>
        </p:nvSpPr>
        <p:spPr>
          <a:xfrm>
            <a:off x="7467480" y="312408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ayer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3" descr=""/>
          <p:cNvPicPr/>
          <p:nvPr/>
        </p:nvPicPr>
        <p:blipFill>
          <a:blip r:embed="rId1"/>
          <a:stretch/>
        </p:blipFill>
        <p:spPr>
          <a:xfrm>
            <a:off x="5105520" y="3581280"/>
            <a:ext cx="3732120" cy="3200400"/>
          </a:xfrm>
          <a:prstGeom prst="rect">
            <a:avLst/>
          </a:prstGeom>
          <a:ln w="0">
            <a:noFill/>
          </a:ln>
        </p:spPr>
      </p:pic>
      <p:sp>
        <p:nvSpPr>
          <p:cNvPr id="59" name="Oval 27"/>
          <p:cNvSpPr/>
          <p:nvPr/>
        </p:nvSpPr>
        <p:spPr>
          <a:xfrm rot="20940000">
            <a:off x="6629040" y="4830840"/>
            <a:ext cx="2417760" cy="352440"/>
          </a:xfrm>
          <a:prstGeom prst="ellipse">
            <a:avLst/>
          </a:prstGeom>
          <a:noFill/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Box 2"/>
          <p:cNvSpPr/>
          <p:nvPr/>
        </p:nvSpPr>
        <p:spPr>
          <a:xfrm>
            <a:off x="0" y="0"/>
            <a:ext cx="9296280" cy="682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2060"/>
                </a:solidFill>
                <a:uFillTx/>
                <a:latin typeface="Comic Sans MS"/>
              </a:rPr>
              <a:t>You have OPTIONS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2060"/>
                </a:solidFill>
                <a:latin typeface="Comic Sans MS"/>
              </a:rPr>
              <a:t>How would you like to display this inform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- Most people have made their eco-web on a poster…but let’s try to be a little more environmentally friendly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- You could make your eco-web online at mindmeister.com or a similar websit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- You could also make it in a program like Inspira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- Do you have another idea how you can display the same information in a different way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**Please fill out the Part 2 Plan slip and check in with teacher for plan approval.*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9T17:10:57Z</dcterms:created>
  <dc:creator>User</dc:creator>
  <dc:description/>
  <dc:language>en-US</dc:language>
  <cp:lastModifiedBy>User</cp:lastModifiedBy>
  <dcterms:modified xsi:type="dcterms:W3CDTF">2010-06-07T19:28:58Z</dcterms:modified>
  <cp:revision>3</cp:revision>
  <dc:subject/>
  <dc:title>Final Project – Part 2: Eco-Web</dc:title>
</cp:coreProperties>
</file>